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F8A-09E7-447F-BC30-3D29BDCC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432-18CE-481F-A59E-68255F11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166-D481-4AA8-93DC-572D9EB0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A35-2A76-4364-A18A-3617471E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80C-C2CC-4BE7-8340-3D78C5D3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0F0-D111-4975-8F80-123E3255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7416-A53B-49A7-BBFF-CCFCDA3C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A71-E821-4313-AB5E-8B0178FC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400-AED0-45FF-8013-C21900F6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CA94-7E4B-424C-B38B-E67F8A7A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4D2-B496-4ED8-A1FF-40B270D2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E2A-0B3D-421A-AF08-21D14FF0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F9C7-3787-442E-BBD8-ADCCF2C85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duke.usask.ca/~lowey/bad_hair_day/left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reeze.wav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"/>
              </a:rPr>
              <a:t>Work place communica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Greg Cheet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7280" y="548280"/>
            <a:ext cx="742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ACTIVE LISTENING SKI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1326960"/>
            <a:ext cx="9067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71520" indent="-371520"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talk, it is not possible to talk and listen at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attention, make eye contact with the talk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't be dist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o put yourself in the talker's shoes to enable          better understa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buClr>
                <a:srgbClr val="000000"/>
              </a:buClr>
              <a:buFont typeface="Arial"/>
              <a:buAutoNum type="roman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notes if the information is complex or exact    details are requi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34800"/>
            <a:ext cx="91440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749"/>
              </a:spcBef>
              <a:buClr>
                <a:srgbClr val="000000"/>
              </a:buClr>
              <a:buFont typeface="Arial"/>
              <a:buAutoNum type="roman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terrupt, be patient and ask questions when the talker has fin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i)Be aware of non-verbal c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buClr>
                <a:srgbClr val="000000"/>
              </a:buClr>
              <a:buFont typeface="Arial"/>
              <a:buAutoNum type="roman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open questions only to check understanding, try and obtain as much information as possible from the con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749"/>
              </a:spcBef>
              <a:buClr>
                <a:srgbClr val="000000"/>
              </a:buClr>
              <a:buFont typeface="Arial"/>
              <a:buAutoNum type="roman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ow you have interpreted the information correctly when the talker has fin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8400" y="475200"/>
            <a:ext cx="795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SOME BARRIERS TO COMMUNICATION</a:t>
            </a: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8640" y="1196280"/>
            <a:ext cx="21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Barr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09400" y="4004640"/>
            <a:ext cx="14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83200" y="1772640"/>
            <a:ext cx="13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88360" y="5876280"/>
            <a:ext cx="27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 Differe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2952720" cy="1739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659640" y="1484280"/>
            <a:ext cx="146196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onethumb &gt; Distracted"/>
          <p:cNvPicPr/>
          <p:nvPr/>
        </p:nvPicPr>
        <p:blipFill>
          <a:blip r:embed="rId3"/>
          <a:stretch/>
        </p:blipFill>
        <p:spPr>
          <a:xfrm>
            <a:off x="611280" y="4292640"/>
            <a:ext cx="2881080" cy="1949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932360" y="3645000"/>
            <a:ext cx="253368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03640" y="122400"/>
            <a:ext cx="5267160" cy="6735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4000" y="620640"/>
            <a:ext cx="244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Arial"/>
              </a:rPr>
              <a:t>Is it a young lady with a feather looking away from you or no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6985080" cy="2459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6920" y="333360"/>
            <a:ext cx="71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Expectations can stop you from seeing something that might otherwise be quite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2743200"/>
            <a:ext cx="680868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1520" y="274680"/>
            <a:ext cx="7345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Arial"/>
              </a:rPr>
              <a:t>NON-VERBAL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3400" y="184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73000" y="1843920"/>
            <a:ext cx="47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Characteristics and 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204012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2924280"/>
            <a:ext cx="3473280" cy="26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Carrie Anne Moss has her personal space encroached on by Monica Bellucci at the Hollywood premiere of Warner Brothers' The Matrix: Reloaded"/>
          <p:cNvPicPr/>
          <p:nvPr/>
        </p:nvPicPr>
        <p:blipFill>
          <a:blip r:embed="rId1"/>
          <a:stretch/>
        </p:blipFill>
        <p:spPr>
          <a:xfrm>
            <a:off x="4788000" y="907920"/>
            <a:ext cx="3003480" cy="4602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9640" y="765000"/>
            <a:ext cx="35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we space between ourselves and others conveys a message.  This varies from “intimate distances” with people we are close to, to “social distance” with stran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0"/>
            <a:ext cx="4762440" cy="6638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2349360"/>
            <a:ext cx="287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Changes in volume, pitch and quality tell us something by the way words are said not what is sa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4936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The V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54040" y="401040"/>
            <a:ext cx="78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s, Signs, Visual Displays and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59770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961080" cy="2684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816360" cy="2692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76360" y="4724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479736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19280" y="620640"/>
            <a:ext cx="6624720" cy="863640"/>
          </a:xfrm>
          <a:custGeom>
            <a:avLst/>
            <a:gdLst>
              <a:gd name="textAreaLeft" fmla="*/ 1159200 w 6624720"/>
              <a:gd name="textAreaRight" fmla="*/ 4803120 w 6624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1197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961080" cy="2684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816360" cy="269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47640" y="35002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5002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19280" y="620640"/>
            <a:ext cx="6624720" cy="863640"/>
          </a:xfrm>
          <a:custGeom>
            <a:avLst/>
            <a:gdLst>
              <a:gd name="textAreaLeft" fmla="*/ 1159200 w 6624720"/>
              <a:gd name="textAreaRight" fmla="*/ 4803120 w 6624720"/>
              <a:gd name="textAreaTop" fmla="*/ 115560 h 863640"/>
              <a:gd name="textAreaBottom" fmla="*/ 74808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2360" y="1197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394920" y="4869000"/>
            <a:ext cx="7777080" cy="1511280"/>
          </a:xfrm>
          <a:custGeom>
            <a:avLst/>
            <a:gdLst>
              <a:gd name="textAreaLeft" fmla="*/ 1360800 w 7777080"/>
              <a:gd name="textAreaRight" fmla="*/ 5638320 w 7777080"/>
              <a:gd name="textAreaTop" fmla="*/ 202320 h 1511280"/>
              <a:gd name="textAreaBottom" fmla="*/ 130896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42c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581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4880160" cy="666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981000"/>
            <a:ext cx="280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he object of good communication, is to ensure that the “understanding” of the receiver is as close as possible to the “meaning” of the se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2818440"/>
            <a:ext cx="8534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o make contact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o exchang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o influence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To solv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8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42c57"/>
                </a:solidFill>
                <a:latin typeface="Arial"/>
              </a:rPr>
              <a:t>Effective communication 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42c57"/>
                </a:solidFill>
                <a:latin typeface="Arial"/>
              </a:rPr>
              <a:t>essential for the following reas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08720" cy="389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00000" y="549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Are we all thinking the same 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7240" y="5007960"/>
            <a:ext cx="86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Communication failure breakdown is often caus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337080" cy="49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527400"/>
            <a:ext cx="8596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99ff"/>
                </a:solidFill>
                <a:latin typeface="Arial"/>
              </a:rPr>
              <a:t>Not being clear about what you want to say ie organise your thou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99ff"/>
                </a:solidFill>
                <a:latin typeface="Arial"/>
              </a:rPr>
              <a:t>Forcing your own ideas on someone without considering the other per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99ff"/>
                </a:solidFill>
                <a:latin typeface="Arial"/>
              </a:rPr>
              <a:t>Not speaking clea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99ff"/>
                </a:solidFill>
                <a:latin typeface="Arial"/>
              </a:rPr>
              <a:t>Being vague, not giving concrete examples or enough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99ff"/>
                </a:solidFill>
                <a:latin typeface="Arial"/>
              </a:rPr>
              <a:t>Pretending or exagger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8580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hinking the other person understands something because you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Your words do not match up with how you are looking or so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ot checking that the other person has 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Speaking in a flat, monotonous, boring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00:55:27Z</dcterms:created>
  <dc:creator>gcheetham</dc:creator>
  <dc:description/>
  <dc:language>en-US</dc:language>
  <cp:lastModifiedBy>GREG CHEETHAM</cp:lastModifiedBy>
  <dcterms:modified xsi:type="dcterms:W3CDTF">2008-03-08T03:16:16Z</dcterms:modified>
  <cp:revision>5</cp:revision>
  <dc:subject/>
  <dc:title>Work place communications</dc:title>
</cp:coreProperties>
</file>